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0.wmf" ContentType="image/x-wmf"/>
  <Override PartName="/ppt/media/image41.wmf" ContentType="image/x-wmf"/>
  <Override PartName="/ppt/media/image30.wmf" ContentType="image/x-wmf"/>
  <Override PartName="/ppt/media/image45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10.wmf" ContentType="image/x-wmf"/>
  <Override PartName="/ppt/media/image46.wmf" ContentType="image/x-wmf"/>
  <Override PartName="/ppt/media/image47.png" ContentType="image/png"/>
  <Override PartName="/ppt/media/image48.png" ContentType="image/png"/>
  <Override PartName="/ppt/media/image38.wmf" ContentType="image/x-wmf"/>
  <Override PartName="/ppt/media/image8.wmf" ContentType="image/x-wmf"/>
  <Override PartName="/ppt/media/image11.wmf" ContentType="image/x-wmf"/>
  <Override PartName="/ppt/media/image50.png" ContentType="image/png"/>
  <Override PartName="/ppt/media/image49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35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7DE-0B43-4783-BAFD-7F0D0D9C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437-C7C2-4770-96C3-045C3DAC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789-B860-48BA-905D-996F115E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DC8-CC8C-4C9B-AAAF-55A7AC8C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3697-0336-4F98-A4D2-E28BA076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AAB6-2BFC-4724-9423-3DCF5C37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6FEA-9921-4B4F-AB5F-AC790BC8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56A8-6974-4BF3-B870-0B1D3520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107B-549A-499F-903B-E9D8DADB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418B-A5CF-4D0E-B671-52442A07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94DD-323E-4D0F-9BA1-9AFF3720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8F5-93C5-4496-9DE1-876D2A7F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1C3E-3E84-4D1A-938F-3D267DB7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DB51-0374-4A58-8BAD-26CF02DE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CC96-9BF1-4739-A37D-0921B4DC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5511-4F61-4E1A-8947-9C33B838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2328-BD06-4977-97F6-31CB556B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F50-1F71-40AB-AF7C-E9BE9BDF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2EE-4F43-42E7-AD3E-8A5C0E1B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105D-DF14-4613-9338-8E836466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FC6-B745-4C9F-ADA2-E674C3FB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D19-CA41-4554-97B7-E986012B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F11-5380-4483-87ED-3B003EA7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D6A-F2F5-46CB-A80F-FAE1A569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AB90-0F72-4B04-93BD-D9B1AF9370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BF4C-D688-4932-B58B-701FF9BEF4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8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package" Target="../embeddings/oleObject3.docx"/><Relationship Id="rId7" Type="http://schemas.openxmlformats.org/officeDocument/2006/relationships/image" Target="../media/image6.wmf"/><Relationship Id="rId8" Type="http://schemas.openxmlformats.org/officeDocument/2006/relationships/image" Target="../media/image5.png"/><Relationship Id="rId9" Type="http://schemas.openxmlformats.org/officeDocument/2006/relationships/package" Target="../embeddings/oleObject4.docx"/><Relationship Id="rId10" Type="http://schemas.openxmlformats.org/officeDocument/2006/relationships/image" Target="../media/image7.wmf"/><Relationship Id="rId11" Type="http://schemas.openxmlformats.org/officeDocument/2006/relationships/image" Target="../media/image5.png"/><Relationship Id="rId12" Type="http://schemas.openxmlformats.org/officeDocument/2006/relationships/package" Target="../embeddings/oleObject5.docx"/><Relationship Id="rId13" Type="http://schemas.openxmlformats.org/officeDocument/2006/relationships/image" Target="../media/image8.wmf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0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28480" y="214200"/>
          <a:ext cx="8340840" cy="866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14200"/>
                    <a:ext cx="8340840" cy="866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782720" y="846000"/>
          <a:ext cx="5378400" cy="68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2720" y="846000"/>
                    <a:ext cx="5378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446120" y="1905120"/>
          <a:ext cx="6297840" cy="4620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6120" y="1905120"/>
                    <a:ext cx="6297840" cy="46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339920" y="758880"/>
          <a:ext cx="5786280" cy="5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758880"/>
                    <a:ext cx="57862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46120" y="1835280"/>
          <a:ext cx="8467560" cy="1057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6120" y="1835280"/>
                    <a:ext cx="84675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066680" y="2913120"/>
          <a:ext cx="6564600" cy="33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2913120"/>
                    <a:ext cx="656460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57200" y="747720"/>
          <a:ext cx="8450280" cy="77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47720"/>
                    <a:ext cx="84502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28600" y="1676520"/>
          <a:ext cx="8643960" cy="130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64396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835280" y="3281400"/>
          <a:ext cx="5378400" cy="299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3281400"/>
                    <a:ext cx="537840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80880" y="3581280"/>
          <a:ext cx="8537760" cy="2187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581280"/>
                    <a:ext cx="85377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447920" y="2590920"/>
          <a:ext cx="7284960" cy="246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590920"/>
                    <a:ext cx="728496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25320" y="685800"/>
          <a:ext cx="8518680" cy="987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5320" y="685800"/>
                    <a:ext cx="85186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528480" y="1376280"/>
          <a:ext cx="8467920" cy="9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376280"/>
                    <a:ext cx="846792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11200" y="2205000"/>
          <a:ext cx="8520120" cy="1746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200" y="2205000"/>
                    <a:ext cx="852012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762120" y="838080"/>
          <a:ext cx="5273640" cy="37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52736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133720" y="2133720"/>
          <a:ext cx="4467240" cy="40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133720"/>
                    <a:ext cx="4467240" cy="40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347760" y="1219320"/>
          <a:ext cx="8534160" cy="125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1219320"/>
                    <a:ext cx="853416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73840" y="3713040"/>
            <a:ext cx="5468760" cy="571680"/>
            <a:chOff x="1473840" y="3713040"/>
            <a:chExt cx="5468760" cy="571680"/>
          </a:xfrm>
        </p:grpSpPr>
        <p:sp>
          <p:nvSpPr>
            <p:cNvPr id="178" name=""/>
            <p:cNvSpPr/>
            <p:nvPr/>
          </p:nvSpPr>
          <p:spPr>
            <a:xfrm>
              <a:off x="1473840" y="3713040"/>
              <a:ext cx="1295280" cy="571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lect Test cas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83560" y="3713040"/>
              <a:ext cx="1702440" cy="571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ecute Test cas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83080" y="3713040"/>
              <a:ext cx="1559520" cy="571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yze Test result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76320" y="4017960"/>
              <a:ext cx="507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84200" y="4017240"/>
              <a:ext cx="398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51880" y="4558320"/>
            <a:ext cx="55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 process using Test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292480" y="0"/>
          <a:ext cx="5275080" cy="61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2480" y="0"/>
                    <a:ext cx="52750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44560" y="1949400"/>
          <a:ext cx="5468760" cy="900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4560" y="1949400"/>
                    <a:ext cx="54687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5"/>
          <a:srcRect l="0" t="0" r="0" b="83686"/>
          <a:stretch/>
        </p:blipFill>
        <p:spPr>
          <a:xfrm>
            <a:off x="4038480" y="2209680"/>
            <a:ext cx="1362240" cy="134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387360" y="380880"/>
          <a:ext cx="5362560" cy="635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7360" y="380880"/>
                    <a:ext cx="53625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" descr=""/>
          <p:cNvPicPr/>
          <p:nvPr/>
        </p:nvPicPr>
        <p:blipFill>
          <a:blip r:embed="rId8"/>
          <a:srcRect l="0" t="15974" r="0" b="67827"/>
          <a:stretch/>
        </p:blipFill>
        <p:spPr>
          <a:xfrm>
            <a:off x="2819520" y="533520"/>
            <a:ext cx="1361880" cy="13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1365120" y="3657600"/>
          <a:ext cx="5467320" cy="6523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65120" y="3657600"/>
                    <a:ext cx="54673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11"/>
          <a:srcRect l="0" t="32058" r="0" b="50698"/>
          <a:stretch/>
        </p:blipFill>
        <p:spPr>
          <a:xfrm>
            <a:off x="7391520" y="5548320"/>
            <a:ext cx="1371600" cy="13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1981080" y="5334120"/>
          <a:ext cx="5380200" cy="3348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5334120"/>
                    <a:ext cx="5380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" descr=""/>
          <p:cNvPicPr/>
          <p:nvPr/>
        </p:nvPicPr>
        <p:blipFill>
          <a:blip r:embed="rId14"/>
          <a:srcRect l="0" t="48958" r="0" b="34147"/>
          <a:stretch/>
        </p:blipFill>
        <p:spPr>
          <a:xfrm>
            <a:off x="5638680" y="3962520"/>
            <a:ext cx="13622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BASIC POI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52480" y="3429000"/>
          <a:ext cx="7086600" cy="691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429000"/>
                    <a:ext cx="7086600" cy="691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06200" y="2170080"/>
          <a:ext cx="9136080" cy="158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" y="2170080"/>
                    <a:ext cx="913608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93560" y="5556240"/>
          <a:ext cx="8466120" cy="423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560" y="5556240"/>
                    <a:ext cx="8466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87360" y="1058760"/>
          <a:ext cx="8609040" cy="28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058760"/>
                    <a:ext cx="860904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87360" y="3581280"/>
          <a:ext cx="8626320" cy="3438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360" y="3581280"/>
                    <a:ext cx="862632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476280" y="493560"/>
          <a:ext cx="8572320" cy="71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93560"/>
                    <a:ext cx="8572320" cy="71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511200" y="546120"/>
          <a:ext cx="8520120" cy="72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46120"/>
                    <a:ext cx="85201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11200" y="1974960"/>
          <a:ext cx="8520120" cy="5645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200" y="1974960"/>
                    <a:ext cx="852012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23720" y="776160"/>
          <a:ext cx="8589960" cy="54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776160"/>
                    <a:ext cx="85899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47680" y="2187720"/>
          <a:ext cx="8853480" cy="917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2187720"/>
                    <a:ext cx="885348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446120" y="2892600"/>
          <a:ext cx="5151600" cy="2892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6120" y="2892600"/>
                    <a:ext cx="5151600" cy="28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704880" y="3351240"/>
          <a:ext cx="8273880" cy="19224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4880" y="3351240"/>
                    <a:ext cx="827388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735200" y="3429000"/>
          <a:ext cx="7408800" cy="27338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35200" y="3429000"/>
                    <a:ext cx="7408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4920" y="4952880"/>
          <a:ext cx="8572320" cy="5637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920" y="4952880"/>
                    <a:ext cx="85723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052800" y="603360"/>
          <a:ext cx="5362560" cy="54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2800" y="603360"/>
                    <a:ext cx="53625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57200" y="2209680"/>
          <a:ext cx="9312120" cy="4356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209680"/>
                    <a:ext cx="931212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76280" y="2205000"/>
          <a:ext cx="8537400" cy="28749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280" y="2205000"/>
                    <a:ext cx="853740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327320" y="3710160"/>
          <a:ext cx="5792760" cy="1350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27320" y="3710160"/>
                    <a:ext cx="5792760" cy="13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633680" y="4754520"/>
          <a:ext cx="6402240" cy="441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33680" y="4754520"/>
                    <a:ext cx="64022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58640" y="617400"/>
          <a:ext cx="8642520" cy="47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617400"/>
                    <a:ext cx="86425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28480" y="1746360"/>
          <a:ext cx="8467920" cy="934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480" y="1746360"/>
                    <a:ext cx="84679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295280" y="3505320"/>
          <a:ext cx="6102360" cy="1676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505320"/>
                    <a:ext cx="6102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8:36:02Z</dcterms:created>
  <dc:creator>RITIK</dc:creator>
  <dc:description/>
  <dc:language>en-US</dc:language>
  <cp:lastModifiedBy>jai swyami narayan</cp:lastModifiedBy>
  <dcterms:modified xsi:type="dcterms:W3CDTF">2002-08-12T15:47:59Z</dcterms:modified>
  <cp:revision>51</cp:revision>
  <dc:subject/>
  <dc:title>No Slide Title</dc:title>
</cp:coreProperties>
</file>